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applause.wav" ContentType="audio/x-wav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C95-1CBA-4339-9EF3-F6526002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1DD-3E30-4D1E-827D-22E863DE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2ED-B0D0-460D-AB3C-8AEEBFD6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1E6-26FD-4D19-95DA-E4FED9DE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38E5-BCDE-4430-AFC3-6DB791DD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6DBF-0A70-4F15-AA8F-36796E45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B281-BA39-4DB4-A442-DE516082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72E0-5F68-46A4-ABE8-7E50EB1B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37FD-2636-462C-A411-6F1EDB57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6F8C-F284-44B4-A0D4-3E1FA2B2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D520-6FF2-484C-A1BF-427FE911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3D2-6053-4216-8F86-90CCAC41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C80F-3133-4474-A030-9B4D57C1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36E0-3176-46F8-9EEA-73436BE3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DAA4-FB41-46ED-A038-92923036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ECBF-4236-4347-8F4B-EAE8F1AC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D74F-C9D3-414A-9D97-787EAE8E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31238-579A-4CD4-A82F-946E4100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ACA13-6A0D-453E-AFF3-DC66105A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E0E18-8D27-45B3-A515-CC4974F5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73118-F364-4B4F-831F-6A46AEDD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6775D-B600-498D-9114-C4EBD0C0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E8B-5593-4899-8244-D22DAE76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EE4EE-30EE-44F0-8087-F03F7C2D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C8F70-3308-47BD-92DD-02384D6E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B35D2-4A2F-47CB-A1B9-FA9C88EB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D4658-E3B2-44B2-9D6F-2E653D8C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9DD90-7CF0-47E8-B284-96F2AE4B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8A8C3-5464-45DB-A249-40B053A5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0FA50-54FD-457C-8583-E37F53A8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2FE7E-7D07-4BC5-838C-2357B067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FCBC-147D-43C2-A512-7B134305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6C54-7223-4EB7-BE5C-D7D7BEC8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A5C-2721-43B9-9A06-226B50EF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B1CB-6A55-4263-84B9-79561C41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1FB65-F661-47EC-9247-303D6036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79158-5AD3-438D-88FA-7E2BA4FA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2663-80AB-4CB9-832D-1F076F75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E8F56-7932-4811-A373-DE3EA80F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854B2-C9F1-4CE2-A649-33028E43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A5527-D2A0-44AE-98DB-A1F24D34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1E999-B937-4837-B080-AEE75ADE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3BD12-15EC-40E1-AEA3-74C1DD97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6F6FB-CE46-4A70-A8D1-FC5877C6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181-5814-4613-A1BE-A8C7CF12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01B87-57DA-4D15-9292-7A0EDD07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8EF9B-28A8-4250-AA24-FFC02BA4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B1021-9716-401F-A779-06A67662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8291C-E5D2-47F3-B125-C57573FA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5347D-1C02-4BD6-9D82-3B56310E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DEEDD-24F8-4DD5-BFEB-EEBC5788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0A639-A5B2-4D7E-92FF-0670F066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B7959-DBBC-43D7-99C8-29C95BB5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A942E-058B-4D4A-BF9A-33AE2FB6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50019-4C56-4E60-870E-3221E266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9CA-D09A-4320-9104-FC214616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90CC0-FDCC-4620-A5D1-2F0BD6C6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FC298-DD18-448D-981C-11AE7993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159B8-215C-4C00-A315-6715A208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047EB-B82B-4E30-83BD-D4A3B008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E8577-52BB-479F-8120-B39CD850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7FE58-BB9B-4C70-90EB-E02FED0C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247A8-983C-4821-AECF-AA51F45E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67AE6-40CB-4A69-88F5-D5EA6552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9BA56-EED8-445E-AA46-1D964270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C8D41-71B0-47D6-9F80-BB3CE036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E84-FECA-4B5E-A396-450D11B3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BD70F-B28E-457F-9A1F-3D28E0A8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197FB-5A0F-4161-84D1-4249DBE9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6731D-CE69-4AF1-A98E-2FA56426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3C6-2C49-46FE-9D89-7C1C5C2B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DF4-E4D3-4691-BE67-359F9C62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3C4F-48BA-42D5-BBD4-F1E5CA9B32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548B-6927-46CF-BA2E-74932AEE46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B139-F657-4867-BED2-65A5EE30D3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387D-1631-4E3D-86AC-F65C485523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ED1C-4490-4BF4-A1E6-6D8647E62E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AE2A-54D7-4922-A90C-F551E477AE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andforms &amp; Peninsul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’s largest peninsula is the Kamchat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ssia has many landforms including the Ural mountains and the Siberian pl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6000">
    <p:dissolve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mate Introdu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horz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ma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imates of Russia are Steppe, Humid continental, Subarctic and Tund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nual precipitation is 2.9 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cord high temperature of Russia is 98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cord low temperature is -44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nual Snowfal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160 to 200 days of snow annu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457200" y="2211480"/>
            <a:ext cx="8381880" cy="4646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3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Unique Featu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iga large evergreen forests that are in Siberia. Mostly found in humid subtropic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frost not even hardy evergreens can grow there. Permanently  frozen layers of soil. Covers 40% of Rus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cover dir="r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Stencil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By: Anthony Li &amp; Alexander Cox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ustrated By: Anthony Li &amp; Alex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cover dir="r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7:39Z</dcterms:created>
  <dc:creator> </dc:creator>
  <dc:description/>
  <dc:language>en-US</dc:language>
  <cp:lastModifiedBy> </cp:lastModifiedBy>
  <dcterms:modified xsi:type="dcterms:W3CDTF">2010-12-20T18:20:03Z</dcterms:modified>
  <cp:revision>7</cp:revision>
  <dc:subject/>
  <dc:title> Landforms &amp; Peninsula</dc:title>
</cp:coreProperties>
</file>